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476760" y="640044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wmf"/><Relationship Id="rId23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Procedimentos para apresentação e normalização de trabalhos acadêmicos: Referê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aria Bernardete Martins Al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arili I. Lo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UFSC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771640" y="2205000"/>
          <a:ext cx="367200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205000"/>
                    <a:ext cx="367200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1066680"/>
            <a:ext cx="8305920" cy="2971800"/>
          </a:xfrm>
          <a:prstGeom prst="rect">
            <a:avLst/>
          </a:prstGeom>
          <a:solidFill>
            <a:srgbClr val="f9e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Título de Monografias (livros, teses, etc.) ou arti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) 0 O título deve ser reproduzido tal como aparece no documen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) O título deve ter um destaque em: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a50021"/>
                </a:solidFill>
                <a:latin typeface="Tahoma"/>
              </a:rPr>
              <a:t>itálico</a:t>
            </a:r>
            <a:r>
              <a:rPr b="0" lang="en-US" sz="1600" spc="-1" strike="noStrike">
                <a:solidFill>
                  <a:srgbClr val="a50021"/>
                </a:solidFill>
                <a:latin typeface="Tahoma"/>
              </a:rPr>
              <a:t> ou </a:t>
            </a:r>
            <a:r>
              <a:rPr b="1" lang="en-US" sz="1600" spc="-1" strike="noStrike">
                <a:solidFill>
                  <a:srgbClr val="a50021"/>
                </a:solidFill>
                <a:latin typeface="Tahoma"/>
              </a:rPr>
              <a:t>negri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m a primeira letra 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úscula, as demais em minúsculas, com exceção dos nomes próprios ou científic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) Os títulos que aparecem em itálico, as palavras estrangeiras ou latinas são indi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 grafia norm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ubtítulo (sem desta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ca-se o subtítulo após o título, precedido por dois pontos (:), </a:t>
            </a:r>
            <a:r>
              <a:rPr b="1" lang="en-US" sz="1800" spc="-1" strike="noStrike">
                <a:solidFill>
                  <a:srgbClr val="cc0066"/>
                </a:solidFill>
                <a:latin typeface="Tahoma"/>
              </a:rPr>
              <a:t>sem destaque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4114800"/>
            <a:ext cx="8382240" cy="2122560"/>
          </a:xfrm>
          <a:prstGeom prst="rect">
            <a:avLst/>
          </a:prstGeom>
          <a:solidFill>
            <a:srgbClr val="f9e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TÍtulo do periódico no 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nome completo do periódico deve ser indicado sem abreviatura e em maiús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xemplo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VISTA INFORMÁTICA NA EDUC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Título do  artigo de perió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010000"/>
                </a:solidFill>
                <a:latin typeface="Tahoma"/>
              </a:rPr>
              <a:t>Título do artigo:</a:t>
            </a:r>
            <a:r>
              <a:rPr b="1" lang="en-US" sz="1600" spc="-1" strike="noStrike">
                <a:solidFill>
                  <a:srgbClr val="01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10000"/>
                </a:solidFill>
                <a:latin typeface="Tahoma"/>
              </a:rPr>
              <a:t>apenas a primeira letra da primeira palavra do título do artig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10000"/>
                </a:solidFill>
                <a:latin typeface="Tahoma"/>
              </a:rPr>
              <a:t>deve ser escrita em maiúscu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1440" y="22824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cccc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ahoma"/>
              </a:rPr>
              <a:t>TÍT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4400" y="2209680"/>
            <a:ext cx="7543800" cy="3173040"/>
          </a:xfrm>
          <a:prstGeom prst="rect">
            <a:avLst/>
          </a:prstGeom>
          <a:solidFill>
            <a:srgbClr val="f9e6d5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2. Título do periódico: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a) O título do periódico (abreviado, ou não) segue o título do artigo escrito com a primeira letra de cada palavra em maiúscula em negrito ou itál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b) Quando existirem títulos semelhantes ou homônimos usa-se a    cidade como forma de  diferenciação, conforme a fonte utiliz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Exemplo: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. Microsc. (Oxford)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. Microsc. (Pari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) Títulos com apenas uma palavra não são abrevi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Exemplo: Natur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360" y="609120"/>
            <a:ext cx="3240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cccc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Verdana"/>
              </a:rPr>
              <a:t>TÍTU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43000" y="1828800"/>
            <a:ext cx="7391520" cy="2071440"/>
          </a:xfrm>
          <a:prstGeom prst="rect">
            <a:avLst/>
          </a:prstGeom>
          <a:solidFill>
            <a:srgbClr val="f9e6d5"/>
          </a:solidFill>
          <a:ln w="0">
            <a:noFill/>
          </a:ln>
          <a:effectLst>
            <a:outerShdw dist="107932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ndica-se a edição, em algarismo(s) arábico(s) seguido(s) de ponto e abreviatura da palavra edição, </a:t>
            </a: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no idioma da publicação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xemplo: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2. 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2. Aufl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66880" y="457200"/>
            <a:ext cx="32767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EDI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26920" y="1700280"/>
            <a:ext cx="8088480" cy="44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O nome do local (cidade), deve ser indicado tal como aparece na obra. Quando houver homônimos, acrescenta-se o nome do estado ou paí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xemplo:</a:t>
            </a:r>
            <a:r>
              <a:rPr b="0" lang="pt-BR" sz="20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800000"/>
                </a:solidFill>
                <a:latin typeface="Arrus BT"/>
              </a:rPr>
              <a:t>Viçosa,  MG    Viçosa, 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rus BT"/>
              </a:rPr>
              <a:t>Quando o Local e a Editora </a:t>
            </a:r>
            <a:r>
              <a:rPr b="0" lang="pt-BR" sz="2000" spc="-1" strike="noStrike">
                <a:solidFill>
                  <a:srgbClr val="800000"/>
                </a:solidFill>
                <a:latin typeface="Arrus BT"/>
              </a:rPr>
              <a:t>não aparecem na publicação</a:t>
            </a:r>
            <a:r>
              <a:rPr b="0" lang="pt-BR" sz="2000" spc="-1" strike="noStrike">
                <a:solidFill>
                  <a:srgbClr val="000000"/>
                </a:solidFill>
                <a:latin typeface="Arrus BT"/>
              </a:rPr>
              <a:t> mas são conhecidos, deve-se indicar, entre colchetes, as expressões</a:t>
            </a:r>
            <a:r>
              <a:rPr b="0" lang="pt-BR" sz="2000" spc="-1" strike="noStrike">
                <a:solidFill>
                  <a:srgbClr val="3333cc"/>
                </a:solidFill>
                <a:latin typeface="Arrus BT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rus BT"/>
              </a:rPr>
              <a:t>	</a:t>
            </a:r>
            <a:r>
              <a:rPr b="0" lang="pt-BR" sz="2000" spc="-1" strike="noStrike">
                <a:solidFill>
                  <a:srgbClr val="3333cc"/>
                </a:solidFill>
                <a:latin typeface="Arrus BT"/>
              </a:rPr>
              <a:t>	</a:t>
            </a:r>
            <a:r>
              <a:rPr b="0" lang="pt-BR" sz="2000" spc="-1" strike="noStrike">
                <a:solidFill>
                  <a:srgbClr val="3333cc"/>
                </a:solidFill>
                <a:latin typeface="Arrus BT"/>
              </a:rPr>
              <a:t>	</a:t>
            </a:r>
            <a:r>
              <a:rPr b="0" lang="pt-BR" sz="2000" spc="-1" strike="noStrike">
                <a:solidFill>
                  <a:srgbClr val="3333cc"/>
                </a:solidFill>
                <a:latin typeface="Arrus BT"/>
              </a:rPr>
              <a:t>   </a:t>
            </a:r>
            <a:r>
              <a:rPr b="0" lang="pt-BR" sz="2000" spc="-1" strike="noStrike">
                <a:solidFill>
                  <a:srgbClr val="800000"/>
                </a:solidFill>
                <a:latin typeface="Tahoma"/>
              </a:rPr>
              <a:t>[S. l.]    sem local (sine lo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0000"/>
                </a:solidFill>
                <a:latin typeface="Tahoma"/>
              </a:rPr>
              <a:t>                    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800000"/>
                </a:solidFill>
                <a:latin typeface="Tahoma"/>
              </a:rPr>
              <a:t>[s. n.]    sem editora (sine nom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0000"/>
                </a:solidFill>
                <a:latin typeface="Tahoma"/>
              </a:rPr>
              <a:t>                     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800000"/>
                </a:solidFill>
                <a:latin typeface="Tahoma"/>
              </a:rPr>
              <a:t>[S. l. : s. n.]  sem local e sem edi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52320" y="457200"/>
            <a:ext cx="2971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1371600"/>
            <a:ext cx="8686800" cy="4099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 nome do editor deve ser grafado como aparece na publicação.  Eles devem ser abreviados desde que dispensáveis à sua identific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pt-BR" sz="1800" spc="-1" strike="noStrike">
                <a:solidFill>
                  <a:srgbClr val="3333ff"/>
                </a:solidFill>
                <a:latin typeface="Verdana"/>
              </a:rPr>
              <a:t>Exemlo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Nobel </a:t>
            </a:r>
            <a:r>
              <a:rPr b="1" lang="pt-BR" sz="1800" spc="-1" strike="noStrike">
                <a:solidFill>
                  <a:srgbClr val="a50021"/>
                </a:solidFill>
                <a:latin typeface="Verdana"/>
              </a:rPr>
              <a:t>e não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Nobel Editora ou Livraria No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Ed. Nacional </a:t>
            </a:r>
            <a:r>
              <a:rPr b="1" lang="pt-BR" sz="1800" spc="-1" strike="noStrike">
                <a:solidFill>
                  <a:srgbClr val="a50021"/>
                </a:solidFill>
                <a:latin typeface="Verdana"/>
              </a:rPr>
              <a:t>e não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Quando </a:t>
            </a:r>
            <a:r>
              <a:rPr b="1" lang="pt-BR" sz="1800" spc="-1" strike="noStrike">
                <a:solidFill>
                  <a:srgbClr val="a50021"/>
                </a:solidFill>
                <a:latin typeface="Verdana"/>
              </a:rPr>
              <a:t>o editor é o mesmo autor,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e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não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ve ser mencionado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o  edit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Quando houver mais de uma editora, indica-se a que aparecer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 maior destaque na  folha de rosto, as demais podem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ser também registradas com os respectivos luga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Verdana"/>
              </a:rPr>
              <a:t>Exemplo: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a50021"/>
                </a:solidFill>
                <a:latin typeface="Verdana"/>
              </a:rPr>
              <a:t>Rio de Janeiro: MAST; São Paulo: UNESP: Nova Est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a50021"/>
                </a:solidFill>
                <a:latin typeface="Verdana"/>
              </a:rPr>
              <a:t>      </a:t>
            </a:r>
            <a:r>
              <a:rPr b="1" lang="pt-BR" sz="1800" spc="-1" strike="noStrike">
                <a:solidFill>
                  <a:srgbClr val="a50021"/>
                </a:solidFill>
                <a:latin typeface="Verdana"/>
              </a:rPr>
              <a:t>São Paulo: UNESP: Paz e Ter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3581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ED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1295280"/>
            <a:ext cx="8686800" cy="5121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9e6d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Indica-se sempre o ano de publicação em  algarismos arábicos sem ponto ou espaço entre e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Exemplo:     2000 e não 2.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0033"/>
                </a:solidFill>
                <a:latin typeface="Tahoma"/>
              </a:rPr>
              <a:t>Quando houver dúvida quanto à data:</a:t>
            </a:r>
            <a:r>
              <a:rPr b="1" lang="pt-BR" sz="1800" spc="-1" strike="noStrike">
                <a:solidFill>
                  <a:srgbClr val="990033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Indica-se, sempre entre colchet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pt-BR" sz="1800" spc="-1" strike="noStrike">
                <a:solidFill>
                  <a:srgbClr val="ff6600"/>
                </a:solidFill>
                <a:latin typeface="Tahoma"/>
              </a:rPr>
              <a:t>[1997?]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para data prováv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pt-BR" sz="1800" spc="-1" strike="noStrike">
                <a:solidFill>
                  <a:srgbClr val="ff6600"/>
                </a:solidFill>
                <a:latin typeface="Tahoma"/>
              </a:rPr>
              <a:t>[ca.  1995]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para data aproxim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Tahoma"/>
              </a:rPr>
              <a:t>                             </a:t>
            </a:r>
            <a:r>
              <a:rPr b="1" lang="pt-BR" sz="1800" spc="-1" strike="noStrike">
                <a:solidFill>
                  <a:srgbClr val="ff6600"/>
                </a:solidFill>
                <a:latin typeface="Tahoma"/>
              </a:rPr>
              <a:t>[199-]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para década c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pt-BR" sz="1800" spc="-1" strike="noStrike">
                <a:solidFill>
                  <a:srgbClr val="ff6600"/>
                </a:solidFill>
                <a:latin typeface="Tahoma"/>
              </a:rPr>
              <a:t>[19--]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para século c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1" lang="pt-BR" sz="1800" spc="-1" strike="noStrike">
                <a:solidFill>
                  <a:srgbClr val="ff6600"/>
                </a:solidFill>
                <a:latin typeface="Tahoma"/>
              </a:rPr>
              <a:t>[19--?]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para século prová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0000"/>
                </a:solidFill>
                <a:latin typeface="Tahoma"/>
              </a:rPr>
              <a:t>Nas referências bibliográficas em vários volumes:</a:t>
            </a:r>
            <a:r>
              <a:rPr b="1" lang="pt-BR" sz="1800" spc="-1" strike="noStrike">
                <a:solidFill>
                  <a:srgbClr val="b7a067"/>
                </a:solidFill>
                <a:latin typeface="Tahoma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Indica-se a data inicial  seguida de hífen, para monografias em curso de publicação ou, data inicial seguida de hífen e data do último volume para publicado encerrada.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Exemplo: 1999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Exemplo: 1990-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360" y="404640"/>
            <a:ext cx="792000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66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cc0066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cc0066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cc0066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cc0066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cc0066"/>
                </a:solidFill>
                <a:latin typeface="Verdana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otas/Sé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lementos complementares         Pagin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lustr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476280"/>
            <a:ext cx="287280" cy="1440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97"/>
                </a:lnTo>
                <a:cubicBezTo>
                  <a:pt x="10800" y="10197"/>
                  <a:pt x="5400" y="11097"/>
                  <a:pt x="0" y="11097"/>
                </a:cubicBezTo>
                <a:cubicBezTo>
                  <a:pt x="5400" y="11097"/>
                  <a:pt x="10800" y="11997"/>
                  <a:pt x="10800" y="1289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9966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2205000"/>
            <a:ext cx="8381880" cy="4023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716e"/>
                </a:solidFill>
                <a:latin typeface="Humanst970 BT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Notas em geral, Séries ou Cole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São Indicadas no final da refer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Quando houver mais de uma, estas deverão figurar   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separadas,  por  virg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x.:  Suplemento, Re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Resumo/Abs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ra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penas as notas de série ou coleção devem figurar entre   parênteses, devendo-se suprimir as expressões: coleção/sé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x: (Primeiros Passos,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1341360"/>
            <a:ext cx="820908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  <a:effectLst>
            <a:outerShdw dist="17819" dir="2700000" blurRad="0" rotWithShape="0">
              <a:srgbClr val="b5d6e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erdana"/>
              </a:rPr>
              <a:t>MARGEM:</a:t>
            </a:r>
            <a:r>
              <a:rPr b="1" lang="en-US" sz="1400" spc="-1" strike="noStrike">
                <a:solidFill>
                  <a:srgbClr val="00cc99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referências são alinhadas somente à margem esquerda. Não utiliz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ustificad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erdana"/>
              </a:rPr>
              <a:t>ESPAÇEJAMENTO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s referências devem ser digitadas, usando espaço si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tre as linhas e espaço duplo para separá-l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2852640"/>
            <a:ext cx="8497800" cy="36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b5d6e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erdana"/>
              </a:rPr>
              <a:t>MAIÚSCULA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brenome de autor: </a:t>
            </a: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[MACHADO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meira palavra do título de uma obra, quando o autor não for mencionado: </a:t>
            </a: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[O DESENVOLVIMENTO..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mes de entidades coletivas, quando esta for o autor: </a:t>
            </a: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[BIBLIOTECA UNIVERSITÁRI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icial da primeira palavra do título de monografias e de artigos de publicações periódicas. </a:t>
            </a: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[Inteligência cognitiv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mes geográficos (quando anteceder um órgão governamental da administração) </a:t>
            </a: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[BRASIL.  Ministério da Educação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ítulos de eventos :[</a:t>
            </a: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CONGRESSO BRASILEIRO DE EDUCAÇÃO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ítulos de publicações periódicas referenciadas no to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[REVISTA CIÊNCIA DA INFORMAÇÃO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39640" y="260280"/>
            <a:ext cx="50036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b5d6ed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Verdana"/>
              </a:rPr>
              <a:t>Referências: Regras gerais</a:t>
            </a:r>
            <a:br>
              <a:rPr sz="2000"/>
            </a:br>
            <a:r>
              <a:rPr b="1" lang="en-US" sz="2000" spc="-1" strike="noStrike">
                <a:solidFill>
                  <a:srgbClr val="00cc99"/>
                </a:solidFill>
                <a:latin typeface="Verdana"/>
              </a:rPr>
              <a:t> (NBR-6023,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733920" y="4038480"/>
            <a:ext cx="2898720" cy="1168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438280" y="5029200"/>
            <a:ext cx="2898720" cy="1168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35640" y="4869000"/>
            <a:ext cx="2889360" cy="1288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01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993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ahoma"/>
              </a:rPr>
              <a:t>Modelos e exemplos de Referências</a:t>
            </a: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 por </a:t>
            </a:r>
            <a:r>
              <a:rPr b="1" lang="en-US" sz="3200" spc="-1" strike="noStrike">
                <a:solidFill>
                  <a:srgbClr val="990033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ahoma"/>
              </a:rPr>
              <a:t>Tipo de Docu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611280" y="620640"/>
            <a:ext cx="7561080" cy="2058120"/>
            <a:chOff x="611280" y="620640"/>
            <a:chExt cx="7561080" cy="2058120"/>
          </a:xfrm>
        </p:grpSpPr>
        <p:sp>
          <p:nvSpPr>
            <p:cNvPr id="98" name=""/>
            <p:cNvSpPr/>
            <p:nvPr/>
          </p:nvSpPr>
          <p:spPr>
            <a:xfrm>
              <a:off x="611280" y="620640"/>
              <a:ext cx="7561080" cy="205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ff99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Tahoma"/>
                </a:rPr>
                <a:t>LIVR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INA, Antonio.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 fábrica automática e a organização do trabalho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. 2. ed. Petrópolis: Vozes, 1987. 132 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26920" y="988560"/>
              <a:ext cx="1150560" cy="293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u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0" name=""/>
            <p:cNvGraphicFramePr/>
            <p:nvPr/>
          </p:nvGraphicFramePr>
          <p:xfrm>
            <a:off x="971280" y="1209240"/>
            <a:ext cx="961920" cy="36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280" y="1209240"/>
                      <a:ext cx="961920" cy="36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"/>
            <p:cNvGraphicFramePr/>
            <p:nvPr/>
          </p:nvGraphicFramePr>
          <p:xfrm>
            <a:off x="3995640" y="1209240"/>
            <a:ext cx="1166400" cy="343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95640" y="1209240"/>
                      <a:ext cx="1166400" cy="34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"/>
            <p:cNvSpPr/>
            <p:nvPr/>
          </p:nvSpPr>
          <p:spPr>
            <a:xfrm>
              <a:off x="4066920" y="914040"/>
              <a:ext cx="1006200" cy="2952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ítu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19640" y="988560"/>
              <a:ext cx="936360" cy="293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di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8200" y="2166120"/>
              <a:ext cx="2232000" cy="3679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Local:  Editora,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7" name=""/>
            <p:cNvGraphicFramePr/>
            <p:nvPr/>
          </p:nvGraphicFramePr>
          <p:xfrm>
            <a:off x="7164360" y="1209240"/>
            <a:ext cx="718560" cy="36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164360" y="1209240"/>
                      <a:ext cx="718560" cy="36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1258560" y="1870920"/>
            <a:ext cx="1512720" cy="288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58560" y="1870920"/>
                      <a:ext cx="1512720" cy="28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1" name=""/>
          <p:cNvGrpSpPr/>
          <p:nvPr/>
        </p:nvGrpSpPr>
        <p:grpSpPr>
          <a:xfrm>
            <a:off x="684360" y="2852640"/>
            <a:ext cx="8065440" cy="3448080"/>
            <a:chOff x="684360" y="2852640"/>
            <a:chExt cx="8065440" cy="3448080"/>
          </a:xfrm>
        </p:grpSpPr>
        <p:sp>
          <p:nvSpPr>
            <p:cNvPr id="112" name=""/>
            <p:cNvSpPr/>
            <p:nvPr/>
          </p:nvSpPr>
          <p:spPr>
            <a:xfrm>
              <a:off x="684360" y="2852640"/>
              <a:ext cx="7559640" cy="344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66ff"/>
                  </a:solidFill>
                  <a:latin typeface="Arrus BT"/>
                </a:rPr>
                <a:t>Tese/Dissert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SENNE JUNIOR,  M. </a:t>
              </a:r>
              <a:r>
                <a:rPr b="1" lang="pt-BR" sz="2000" spc="-1" strike="noStrike">
                  <a:solidFill>
                    <a:srgbClr val="000000"/>
                  </a:solidFill>
                  <a:latin typeface="Verdana"/>
                </a:rPr>
                <a:t>Instrumentação sísmica para centrais nucleares.</a:t>
              </a: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 1988. 126 f.</a:t>
              </a:r>
              <a:r>
                <a:rPr b="0" lang="pt-BR" sz="2000" spc="-1" strike="noStrike">
                  <a:solidFill>
                    <a:srgbClr val="0066ff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a8289c"/>
                  </a:solidFill>
                  <a:latin typeface="Verdana"/>
                </a:rPr>
                <a:t>Dissertação (Mestrado em  Ciência   e  Tecnologia Nucleares)-Escola de Engenharia, Universidade Federal de  Minas Gerais</a:t>
              </a:r>
              <a:r>
                <a:rPr b="0" lang="pt-BR" sz="2000" spc="-1" strike="noStrike">
                  <a:solidFill>
                    <a:srgbClr val="e9af75"/>
                  </a:solidFill>
                  <a:latin typeface="Verdana"/>
                </a:rPr>
                <a:t>,</a:t>
              </a:r>
              <a:r>
                <a:rPr b="0" lang="pt-BR" sz="2000" spc="-1" strike="noStrike">
                  <a:solidFill>
                    <a:srgbClr val="0066f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Belo Horizonte, 1988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71640" y="3357720"/>
              <a:ext cx="12967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u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88000" y="3213000"/>
              <a:ext cx="1222200" cy="432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ítu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76360" y="5516640"/>
              <a:ext cx="1584360" cy="504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Local e Ano de entreg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7777440" y="4615560"/>
              <a:ext cx="1511280" cy="433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No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1476360" y="5229360"/>
            <a:ext cx="1584360" cy="36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476360" y="5229360"/>
                      <a:ext cx="158436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" name=""/>
            <p:cNvGraphicFramePr/>
            <p:nvPr/>
          </p:nvGraphicFramePr>
          <p:xfrm>
            <a:off x="7956720" y="4149720"/>
            <a:ext cx="360360" cy="1224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56720" y="4149720"/>
                      <a:ext cx="360360" cy="12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3635280" y="5229360"/>
              <a:ext cx="1656000" cy="504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no de defesa e  folh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971640" y="3573360"/>
            <a:ext cx="1251000" cy="358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971640" y="3573360"/>
                      <a:ext cx="125100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" name=""/>
            <p:cNvGraphicFramePr/>
            <p:nvPr/>
          </p:nvGraphicFramePr>
          <p:xfrm>
            <a:off x="4788000" y="3573360"/>
            <a:ext cx="1251000" cy="358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788000" y="3573360"/>
                      <a:ext cx="125100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" name=""/>
            <p:cNvGraphicFramePr/>
            <p:nvPr/>
          </p:nvGraphicFramePr>
          <p:xfrm>
            <a:off x="3635280" y="4341960"/>
            <a:ext cx="1513080" cy="958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635280" y="4341960"/>
                      <a:ext cx="151308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ferê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É um conjunto de elementos que permite a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dentificação, no todo ou  em  parte,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ocumentos impressos ou registrados no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iversos tipos  de materiais, audiovisuais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onoros, eletrônicos, etc.”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(NBR 6023/200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55640" y="692280"/>
            <a:ext cx="7561440" cy="2280240"/>
            <a:chOff x="755640" y="692280"/>
            <a:chExt cx="7561440" cy="2280240"/>
          </a:xfrm>
        </p:grpSpPr>
        <p:sp>
          <p:nvSpPr>
            <p:cNvPr id="129" name=""/>
            <p:cNvSpPr/>
            <p:nvPr/>
          </p:nvSpPr>
          <p:spPr>
            <a:xfrm>
              <a:off x="755640" y="692280"/>
              <a:ext cx="7561440" cy="228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ff99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NOGUEIRA, D. P. Fadiga. In: FUNDACENTRO.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rso de médicos do trabalho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.  São Paulo,  1974.  p. 807-813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6920" y="979560"/>
              <a:ext cx="1657440" cy="299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autor do capítu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1" name=""/>
            <p:cNvGraphicFramePr/>
            <p:nvPr/>
          </p:nvGraphicFramePr>
          <p:xfrm>
            <a:off x="4140360" y="1195560"/>
            <a:ext cx="1439640" cy="247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40360" y="1195560"/>
                      <a:ext cx="143964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"/>
            <p:cNvGraphicFramePr/>
            <p:nvPr/>
          </p:nvGraphicFramePr>
          <p:xfrm>
            <a:off x="4211640" y="1987560"/>
            <a:ext cx="1079640" cy="287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11640" y="1987560"/>
                      <a:ext cx="1079640" cy="28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"/>
            <p:cNvGraphicFramePr/>
            <p:nvPr/>
          </p:nvGraphicFramePr>
          <p:xfrm>
            <a:off x="6084720" y="1123920"/>
            <a:ext cx="1251000" cy="360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84720" y="1123920"/>
                      <a:ext cx="125100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2627280" y="835200"/>
              <a:ext cx="1008000" cy="360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ítulo do capítu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63640" y="2276640"/>
              <a:ext cx="2232000" cy="377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Local,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9" name=""/>
            <p:cNvGraphicFramePr/>
            <p:nvPr/>
          </p:nvGraphicFramePr>
          <p:xfrm>
            <a:off x="2195640" y="1987560"/>
            <a:ext cx="1512720" cy="295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95640" y="1987560"/>
                      <a:ext cx="1512720" cy="29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"/>
            <p:cNvSpPr/>
            <p:nvPr/>
          </p:nvSpPr>
          <p:spPr>
            <a:xfrm>
              <a:off x="4211640" y="907920"/>
              <a:ext cx="1368360" cy="300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autor do liv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67280" y="907920"/>
              <a:ext cx="1584360" cy="287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ítulo do liv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84720" y="2276640"/>
              <a:ext cx="1008000" cy="288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ági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19640" y="1339920"/>
              <a:ext cx="431640" cy="43164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5" name=""/>
            <p:cNvGraphicFramePr/>
            <p:nvPr/>
          </p:nvGraphicFramePr>
          <p:xfrm>
            <a:off x="2627280" y="1195560"/>
            <a:ext cx="863640" cy="288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627280" y="1195560"/>
                      <a:ext cx="863640" cy="2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"/>
            <p:cNvGraphicFramePr/>
            <p:nvPr/>
          </p:nvGraphicFramePr>
          <p:xfrm>
            <a:off x="971640" y="1195560"/>
            <a:ext cx="1251000" cy="287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971640" y="1195560"/>
                      <a:ext cx="1251000" cy="28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9" name=""/>
          <p:cNvSpPr/>
          <p:nvPr/>
        </p:nvSpPr>
        <p:spPr>
          <a:xfrm>
            <a:off x="324000" y="260280"/>
            <a:ext cx="2233440" cy="43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pítulo de Liv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84360" y="3789360"/>
            <a:ext cx="7561080" cy="2403360"/>
            <a:chOff x="684360" y="3789360"/>
            <a:chExt cx="7561080" cy="2403360"/>
          </a:xfrm>
        </p:grpSpPr>
        <p:sp>
          <p:nvSpPr>
            <p:cNvPr id="151" name=""/>
            <p:cNvSpPr/>
            <p:nvPr/>
          </p:nvSpPr>
          <p:spPr>
            <a:xfrm>
              <a:off x="684360" y="3789360"/>
              <a:ext cx="7561080" cy="24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ff99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LÉVY, Pierre. A nova relação com o saber. In: _______</a:t>
              </a: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Cibercultura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São Paulo: Editora 34,  1999.  p. 157-176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5640" y="4076640"/>
              <a:ext cx="1657440" cy="300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autor do capítu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3" name=""/>
            <p:cNvGraphicFramePr/>
            <p:nvPr/>
          </p:nvGraphicFramePr>
          <p:xfrm>
            <a:off x="4140360" y="5084640"/>
            <a:ext cx="1079280" cy="287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140360" y="5084640"/>
                      <a:ext cx="1079280" cy="2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"/>
            <p:cNvGraphicFramePr/>
            <p:nvPr/>
          </p:nvGraphicFramePr>
          <p:xfrm>
            <a:off x="6659640" y="4221000"/>
            <a:ext cx="1251000" cy="2876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659640" y="4221000"/>
                      <a:ext cx="1251000" cy="2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3203640" y="3933720"/>
              <a:ext cx="1297080" cy="360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ítulo do capítu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58920" y="5445000"/>
              <a:ext cx="2232000" cy="378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Local: editora e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9" name=""/>
            <p:cNvGraphicFramePr/>
            <p:nvPr/>
          </p:nvGraphicFramePr>
          <p:xfrm>
            <a:off x="1332000" y="5084640"/>
            <a:ext cx="2087640" cy="2955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332000" y="5084640"/>
                      <a:ext cx="2087640" cy="29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"/>
            <p:cNvSpPr/>
            <p:nvPr/>
          </p:nvSpPr>
          <p:spPr>
            <a:xfrm>
              <a:off x="6443640" y="3933720"/>
              <a:ext cx="158436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ítulo do liv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13080" y="5373720"/>
              <a:ext cx="1008360" cy="288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ági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19640" y="4508640"/>
              <a:ext cx="432000" cy="43164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4" name=""/>
            <p:cNvGraphicFramePr/>
            <p:nvPr/>
          </p:nvGraphicFramePr>
          <p:xfrm>
            <a:off x="3419640" y="4292640"/>
            <a:ext cx="863280" cy="2887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419640" y="4292640"/>
                      <a:ext cx="863280" cy="2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"/>
            <p:cNvGraphicFramePr/>
            <p:nvPr/>
          </p:nvGraphicFramePr>
          <p:xfrm>
            <a:off x="900000" y="4292640"/>
            <a:ext cx="1251000" cy="2872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900000" y="4292640"/>
                      <a:ext cx="1251000" cy="28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8" name=""/>
          <p:cNvSpPr/>
          <p:nvPr/>
        </p:nvSpPr>
        <p:spPr>
          <a:xfrm>
            <a:off x="539640" y="3213000"/>
            <a:ext cx="2232000" cy="43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pítulo de Liv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11280" y="1197000"/>
            <a:ext cx="7705800" cy="2869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ODRIGUES, M. V. Uma investigação na qualidade de vida no trabalho. In: ENCONTRO ANUAL DA ANPAD, 13., 1989, Belo Horizonte.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nai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lo Horizonte: ANPAD, 1989. p. 455-468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2560" y="1484280"/>
            <a:ext cx="1673280" cy="300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utor do arti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140360" y="2637000"/>
          <a:ext cx="792000" cy="2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637000"/>
                    <a:ext cx="7920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771640" y="1700280"/>
          <a:ext cx="4969080" cy="28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1700280"/>
                    <a:ext cx="496908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403280" y="3068640"/>
            <a:ext cx="1440000" cy="360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cal: editor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826920" y="2708280"/>
          <a:ext cx="2737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708280"/>
                    <a:ext cx="2737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6948360" y="2637000"/>
            <a:ext cx="1079640" cy="504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ítulo do ev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40360" y="2924280"/>
            <a:ext cx="863280" cy="360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ág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28720" y="1700280"/>
          <a:ext cx="1263600" cy="2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8720" y="1700280"/>
                    <a:ext cx="12636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250920" y="189000"/>
            <a:ext cx="3960720" cy="43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balho apresentado em congr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020000" y="2421000"/>
          <a:ext cx="792000" cy="21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20000" y="2421000"/>
                    <a:ext cx="7920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11280" y="2133720"/>
            <a:ext cx="43164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53753" dir="2700000" blurRad="0" rotWithShape="0">
              <a:srgbClr val="79d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71640" y="3500280"/>
            <a:ext cx="1584360" cy="432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ome do ev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56000" y="1268280"/>
            <a:ext cx="1656000" cy="432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ítulo do arti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42920" y="2133720"/>
            <a:ext cx="5689800" cy="574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059280" y="2349000"/>
            <a:ext cx="0" cy="107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059280" y="2349000"/>
            <a:ext cx="0" cy="107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492360" y="2349000"/>
            <a:ext cx="0" cy="107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1640" y="2205000"/>
            <a:ext cx="597672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276720" y="2421000"/>
            <a:ext cx="0" cy="107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276720" y="2491920"/>
            <a:ext cx="0" cy="108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11280" y="4076640"/>
            <a:ext cx="7846920" cy="747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Indica-se o nome completo sem abreviatura e em maiúscul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REVISTA DE INFORMÁTICA NA EDUCAÇÃ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3816360" cy="62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Verdana"/>
              </a:rPr>
              <a:t>Fascículo de rev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55640" y="1341360"/>
            <a:ext cx="7632720" cy="2280240"/>
            <a:chOff x="755640" y="1341360"/>
            <a:chExt cx="7632720" cy="2280240"/>
          </a:xfrm>
        </p:grpSpPr>
        <p:sp>
          <p:nvSpPr>
            <p:cNvPr id="198" name=""/>
            <p:cNvSpPr/>
            <p:nvPr/>
          </p:nvSpPr>
          <p:spPr>
            <a:xfrm>
              <a:off x="755640" y="1341360"/>
              <a:ext cx="7632720" cy="228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ff99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JUNTURA ECONÔMICA: as 500 maiores empresas do Brasil. Rio de Janeiro:  FGV, v. 38, n. 9, set. 1984. 135 p.  Edição Especia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47640" y="1484280"/>
              <a:ext cx="1673280" cy="371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Nome da revis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0" name=""/>
            <p:cNvGraphicFramePr/>
            <p:nvPr/>
          </p:nvGraphicFramePr>
          <p:xfrm>
            <a:off x="4645080" y="1844640"/>
            <a:ext cx="2246400" cy="247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45080" y="1844640"/>
                      <a:ext cx="224640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2" name=""/>
            <p:cNvGraphicFramePr/>
            <p:nvPr/>
          </p:nvGraphicFramePr>
          <p:xfrm>
            <a:off x="5724360" y="2565360"/>
            <a:ext cx="1089360" cy="287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24360" y="2565360"/>
                      <a:ext cx="1089360" cy="28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1547640" y="2925720"/>
              <a:ext cx="2808360" cy="503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Local: editor, volume, número, mês ano.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5" name=""/>
            <p:cNvGraphicFramePr/>
            <p:nvPr/>
          </p:nvGraphicFramePr>
          <p:xfrm>
            <a:off x="2052720" y="2565360"/>
            <a:ext cx="1958760" cy="295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52720" y="2565360"/>
                      <a:ext cx="1958760" cy="29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"/>
            <p:cNvSpPr/>
            <p:nvPr/>
          </p:nvSpPr>
          <p:spPr>
            <a:xfrm>
              <a:off x="5221440" y="1557360"/>
              <a:ext cx="1008000" cy="299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Subtítu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96000" y="2852640"/>
              <a:ext cx="1017720" cy="289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No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1692360" y="1844640"/>
            <a:ext cx="1263600" cy="287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92360" y="1844640"/>
                      <a:ext cx="1263600" cy="28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1" name=""/>
          <p:cNvSpPr/>
          <p:nvPr/>
        </p:nvSpPr>
        <p:spPr>
          <a:xfrm>
            <a:off x="4500720" y="2781360"/>
            <a:ext cx="1017360" cy="28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ág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0" y="2492280"/>
          <a:ext cx="801720" cy="287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2492280"/>
                    <a:ext cx="8017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4284720" y="5157720"/>
            <a:ext cx="410364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rus BT"/>
              </a:rPr>
              <a:t>Nota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 meses devem ser abreviados de acordo com o idioma da publicaçã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826920" y="981000"/>
            <a:ext cx="3816360" cy="62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Verdana"/>
              </a:rPr>
              <a:t>Artigo de rev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84360" y="1916280"/>
            <a:ext cx="7559640" cy="2640960"/>
            <a:chOff x="684360" y="1916280"/>
            <a:chExt cx="7559640" cy="2640960"/>
          </a:xfrm>
        </p:grpSpPr>
        <p:sp>
          <p:nvSpPr>
            <p:cNvPr id="217" name=""/>
            <p:cNvSpPr/>
            <p:nvPr/>
          </p:nvSpPr>
          <p:spPr>
            <a:xfrm>
              <a:off x="684360" y="2779920"/>
              <a:ext cx="7272360" cy="177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eeb8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Verdana"/>
                </a:rPr>
                <a:t>ESPOSITO, I. et al. Repercussões da fadiga psíquica no trabalho e na empresa. </a:t>
              </a:r>
              <a:r>
                <a:rPr b="1" lang="pt-BR" sz="2000" spc="-1" strike="noStrike">
                  <a:solidFill>
                    <a:srgbClr val="3333cc"/>
                  </a:solidFill>
                  <a:latin typeface="Verdana"/>
                </a:rPr>
                <a:t>Revista Brasileira de Saúde Ocupacional</a:t>
              </a:r>
              <a:r>
                <a:rPr b="0" lang="pt-BR" sz="2000" spc="-1" strike="noStrike">
                  <a:solidFill>
                    <a:srgbClr val="3333cc"/>
                  </a:solidFill>
                  <a:latin typeface="Verdana"/>
                </a:rPr>
                <a:t>, São Paulo, v. 8, n. 32, p. 37-45, out./dez. 1979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" name=""/>
            <p:cNvGraphicFramePr/>
            <p:nvPr/>
          </p:nvGraphicFramePr>
          <p:xfrm>
            <a:off x="1476360" y="2347920"/>
            <a:ext cx="936720" cy="466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76360" y="2347920"/>
                      <a:ext cx="936720" cy="46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"/>
            <p:cNvGraphicFramePr/>
            <p:nvPr/>
          </p:nvGraphicFramePr>
          <p:xfrm>
            <a:off x="2700360" y="3571920"/>
            <a:ext cx="3816360" cy="43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00360" y="3571920"/>
                      <a:ext cx="381636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"/>
            <p:cNvSpPr/>
            <p:nvPr/>
          </p:nvSpPr>
          <p:spPr>
            <a:xfrm>
              <a:off x="1116000" y="2060640"/>
              <a:ext cx="1728720" cy="431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autor do arti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43280" y="1916280"/>
              <a:ext cx="1656000" cy="431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ítulo do arti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76720" y="4005360"/>
              <a:ext cx="2808000" cy="503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Local, volume, número, páginas,mês e a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5400000">
              <a:off x="7235280" y="3285360"/>
              <a:ext cx="173016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ítulo da revist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6" name=""/>
            <p:cNvGraphicFramePr/>
            <p:nvPr/>
          </p:nvGraphicFramePr>
          <p:xfrm>
            <a:off x="4140360" y="2347920"/>
            <a:ext cx="2447640" cy="466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40360" y="2347920"/>
                      <a:ext cx="2447640" cy="46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" name=""/>
            <p:cNvGraphicFramePr/>
            <p:nvPr/>
          </p:nvGraphicFramePr>
          <p:xfrm>
            <a:off x="7667640" y="2779920"/>
            <a:ext cx="289080" cy="100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67640" y="2779920"/>
                      <a:ext cx="289080" cy="100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189000"/>
            <a:ext cx="26290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Verdana"/>
              </a:rPr>
              <a:t>Artigo de jo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9640" y="981000"/>
            <a:ext cx="7920000" cy="2376720"/>
            <a:chOff x="539640" y="981000"/>
            <a:chExt cx="7920000" cy="2376720"/>
          </a:xfrm>
        </p:grpSpPr>
        <p:sp>
          <p:nvSpPr>
            <p:cNvPr id="232" name=""/>
            <p:cNvSpPr/>
            <p:nvPr/>
          </p:nvSpPr>
          <p:spPr>
            <a:xfrm>
              <a:off x="539640" y="1844640"/>
              <a:ext cx="7920000" cy="75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OLIVEIRA, W. P. de. Judô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educação física e moral.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O Estado de Minas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 Belo Horizonte, 17 mar. 1981. Caderno de esporte, p. 7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"/>
            <p:cNvGraphicFramePr/>
            <p:nvPr/>
          </p:nvGraphicFramePr>
          <p:xfrm>
            <a:off x="3635280" y="2565360"/>
            <a:ext cx="1008000" cy="372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35280" y="2565360"/>
                      <a:ext cx="100800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5" name=""/>
            <p:cNvGraphicFramePr/>
            <p:nvPr/>
          </p:nvGraphicFramePr>
          <p:xfrm>
            <a:off x="6372360" y="2637000"/>
            <a:ext cx="1250640" cy="360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72360" y="2637000"/>
                      <a:ext cx="125064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7" name=""/>
            <p:cNvGraphicFramePr/>
            <p:nvPr/>
          </p:nvGraphicFramePr>
          <p:xfrm>
            <a:off x="1547640" y="2637000"/>
            <a:ext cx="1177920" cy="21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47640" y="2637000"/>
                      <a:ext cx="117792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7164360" y="981000"/>
              <a:ext cx="1006560" cy="503280"/>
            </a:xfrm>
            <a:prstGeom prst="flowChartAlternateProcess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ítulo 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jor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87640" y="1052640"/>
              <a:ext cx="1008000" cy="466560"/>
            </a:xfrm>
            <a:prstGeom prst="flowChartAlternateProcess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ítulo 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rt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16000" y="981000"/>
              <a:ext cx="1079640" cy="433440"/>
            </a:xfrm>
            <a:prstGeom prst="flowChartAlternateProcess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utor d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rt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64000" y="2924280"/>
              <a:ext cx="1224000" cy="360360"/>
            </a:xfrm>
            <a:prstGeom prst="flowChartAlternateProcess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Dia, mês 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16720" y="2925720"/>
              <a:ext cx="1008000" cy="432000"/>
            </a:xfrm>
            <a:prstGeom prst="flowChartAlternateProcess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Cader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 pág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92360" y="2852640"/>
              <a:ext cx="863640" cy="289080"/>
            </a:xfrm>
            <a:prstGeom prst="flowChartAlternateProcess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5" name=""/>
            <p:cNvGraphicFramePr/>
            <p:nvPr/>
          </p:nvGraphicFramePr>
          <p:xfrm>
            <a:off x="3059280" y="1484280"/>
            <a:ext cx="718920" cy="372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59280" y="1484280"/>
                      <a:ext cx="71892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7" name=""/>
            <p:cNvGraphicFramePr/>
            <p:nvPr/>
          </p:nvGraphicFramePr>
          <p:xfrm>
            <a:off x="7308720" y="1484280"/>
            <a:ext cx="828720" cy="372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08720" y="1484280"/>
                      <a:ext cx="82872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9" name=""/>
            <p:cNvGraphicFramePr/>
            <p:nvPr/>
          </p:nvGraphicFramePr>
          <p:xfrm>
            <a:off x="1260360" y="1341360"/>
            <a:ext cx="936720" cy="422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60360" y="1341360"/>
                      <a:ext cx="93672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1" name=""/>
          <p:cNvSpPr/>
          <p:nvPr/>
        </p:nvSpPr>
        <p:spPr>
          <a:xfrm>
            <a:off x="611280" y="4797360"/>
            <a:ext cx="7920000" cy="75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AL, L. N. MP fiscaliza com autonomia total.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ornal do Brasi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Rio de janeiro, p. 3, 25 abr. 1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203640" y="5516640"/>
          <a:ext cx="1008000" cy="372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03640" y="5516640"/>
                    <a:ext cx="10080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2268360" y="5589720"/>
          <a:ext cx="67500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68360" y="5589720"/>
                    <a:ext cx="675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826920" y="5589720"/>
          <a:ext cx="1177920" cy="215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6920" y="5589720"/>
                    <a:ext cx="11779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7380360" y="4076640"/>
            <a:ext cx="1006560" cy="39528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ítulo 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jo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06920" y="4076640"/>
            <a:ext cx="1079280" cy="39528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ítulo 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rti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4005360"/>
            <a:ext cx="1295640" cy="43344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utor 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rti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03640" y="5950080"/>
            <a:ext cx="1152360" cy="35856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a, mês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95640" y="5950080"/>
            <a:ext cx="792000" cy="28872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ág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71640" y="5805360"/>
            <a:ext cx="865080" cy="36036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780000" y="4437000"/>
          <a:ext cx="936360" cy="372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80000" y="4437000"/>
                    <a:ext cx="9363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7380360" y="4437000"/>
          <a:ext cx="828720" cy="372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380360" y="4437000"/>
                    <a:ext cx="82872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042920" y="4365720"/>
          <a:ext cx="936720" cy="422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042920" y="4365720"/>
                    <a:ext cx="9367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11280" y="1989000"/>
            <a:ext cx="8001000" cy="168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66"/>
                </a:solidFill>
                <a:latin typeface="Tahoma"/>
              </a:rPr>
              <a:t>ENTREVIST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rus BT"/>
              </a:rPr>
              <a:t>MELLO, Evaldo Cabral de. O passado no presente. </a:t>
            </a:r>
            <a:r>
              <a:rPr b="1" lang="pt-BR" sz="2000" spc="-1" strike="noStrike">
                <a:solidFill>
                  <a:srgbClr val="000000"/>
                </a:solidFill>
                <a:latin typeface="Arrus BT"/>
              </a:rPr>
              <a:t>Veja</a:t>
            </a:r>
            <a:r>
              <a:rPr b="0" lang="pt-BR" sz="2000" spc="-1" strike="noStrike">
                <a:solidFill>
                  <a:srgbClr val="000000"/>
                </a:solidFill>
                <a:latin typeface="Arrus BT"/>
              </a:rPr>
              <a:t>, São Paulo, n. 1528, p 9-11, 4 set. 1998. Entrevista concedida a João Gabriel de Li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5640" y="4076640"/>
            <a:ext cx="7924680" cy="10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  <a:effectLst>
            <a:outerShdw dist="17819" dir="2700000" blurRad="0" rotWithShape="0">
              <a:srgbClr val="79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Verdana"/>
              </a:rPr>
              <a:t>Nota</a:t>
            </a:r>
            <a:r>
              <a:rPr b="0" lang="en-US" sz="1400" spc="-1" strike="noStrike">
                <a:solidFill>
                  <a:srgbClr val="cc0066"/>
                </a:solidFill>
                <a:latin typeface="Verdana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Ao referenciar entrevistas, faz-se  a descrição física de acordo com o suporte adotad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entrada para entrevista é dada pelo nome do  entrevistad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. Quando o entrevistador tem maior destaque, entrar por est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5400720" cy="80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df9dbe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UTROS TIPOS DE DOCUMENTO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trev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0" y="1828800"/>
            <a:ext cx="380880" cy="3809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97"/>
                </a:lnTo>
                <a:cubicBezTo>
                  <a:pt x="10800" y="10197"/>
                  <a:pt x="5400" y="11097"/>
                  <a:pt x="0" y="11097"/>
                </a:cubicBezTo>
                <a:cubicBezTo>
                  <a:pt x="5400" y="11097"/>
                  <a:pt x="10800" y="11997"/>
                  <a:pt x="10800" y="1289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05520" y="2286000"/>
            <a:ext cx="24382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A A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95280" y="3048120"/>
            <a:ext cx="2667240" cy="971640"/>
          </a:xfrm>
          <a:prstGeom prst="rect">
            <a:avLst/>
          </a:prstGeom>
          <a:solidFill>
            <a:srgbClr val="f4eec2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3456000" cy="82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9966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 </a:t>
            </a:r>
            <a:br>
              <a:rPr sz="2400"/>
            </a:b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DOCUMENTOS ONLIN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75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762120" y="4648320"/>
            <a:ext cx="7848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  <a:effectLst>
            <a:outerShdw dist="107932" dir="2700000" blurRad="0" rotWithShape="0">
              <a:srgbClr val="ff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a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s informações devem ser retiradas, sempre que possível, do cabeçalho da mensagem recebida. Quando o e-mail for cópia, poderá ser acrescentado os demais destinatários após o primeiro,  separados por ponto e vírgul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6920" y="1125360"/>
            <a:ext cx="7696440" cy="2593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  <a:effectLst>
            <a:outerShdw dist="107932" dir="2700000" blurRad="0" rotWithShape="0">
              <a:srgbClr val="ff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AUTOR DA MENSAGEM. Assunto da mensagem [mensagem pessoal]. Mensagem recebida  por &lt;e-mail do destinatário&gt; data de recebimento, dia mês e 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MARINO, Anne Marie. TOEFL brienfieng number [mensagem pessoal]. Mensagem recebida por &lt;educatorinfo@gets.org&gt; em 12 maio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39640" y="981000"/>
            <a:ext cx="7993080" cy="11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0066"/>
                </a:solidFill>
                <a:latin typeface="Verdana"/>
              </a:rPr>
              <a:t>ARTIGOS DE PERIÓDICOS  (ON-LIN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ALOFF, Joel. A internet e o valor da "internetização".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iência da  nform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Brasília, v. 26, n. 3, 1997. Disponível  em: &lt;http://www.ibict.br/cionline/&gt;. Acesso em: 18 maio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4360" y="2421000"/>
            <a:ext cx="7632720" cy="14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0066"/>
                </a:solidFill>
                <a:latin typeface="Verdana"/>
              </a:rPr>
              <a:t>ARTIGOS DE JORNAIS (ON-LIN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AVES, Rodrigo França. Ministério corta pagamento de 46,5 mil professores.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Glob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Rio de Janeiro, 19 maio 1998. Disponível em:&lt;http://www.oglobo.com.br/&gt;. Acesso em: 19 maio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9640" y="4076640"/>
            <a:ext cx="8136000" cy="1854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Home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UNIVERSIDADE FEDERAL DE SANTA CATARINA. Biblioteca Universitária. Serviço de Referência.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atálogos de Universidade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. Apresenta endereços de Universidades nacionais e estrangeiras. Disponível em: &lt;http://www.bu.ufsc.br&gt;. Acesso em: 19 maio 1998</a:t>
            </a:r>
            <a:r>
              <a:rPr b="0" lang="pt-BR" sz="1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4419720"/>
            <a:ext cx="1523880" cy="990360"/>
          </a:xfrm>
          <a:prstGeom prst="ellipse">
            <a:avLst/>
          </a:prstGeom>
          <a:solidFill>
            <a:srgbClr val="fcfb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4419720"/>
            <a:ext cx="1523880" cy="9903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 QU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4419720"/>
            <a:ext cx="1523880" cy="990360"/>
          </a:xfrm>
          <a:prstGeom prst="ellipse">
            <a:avLst/>
          </a:prstGeom>
          <a:solidFill>
            <a:srgbClr val="e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34320" y="4343400"/>
            <a:ext cx="1828800" cy="1066680"/>
          </a:xfrm>
          <a:prstGeom prst="ellipse">
            <a:avLst/>
          </a:prstGeom>
          <a:solidFill>
            <a:srgbClr val="ffd5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N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2438280"/>
            <a:ext cx="1523880" cy="990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514600"/>
            <a:ext cx="1523880" cy="990720"/>
          </a:xfrm>
          <a:prstGeom prst="ellipse">
            <a:avLst/>
          </a:prstGeom>
          <a:solidFill>
            <a:srgbClr val="fcfb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2438280"/>
            <a:ext cx="1524240" cy="990720"/>
          </a:xfrm>
          <a:prstGeom prst="ellipse">
            <a:avLst/>
          </a:prstGeom>
          <a:solidFill>
            <a:srgbClr val="e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2514600"/>
            <a:ext cx="1523880" cy="990720"/>
          </a:xfrm>
          <a:prstGeom prst="ellipse">
            <a:avLst/>
          </a:prstGeom>
          <a:solidFill>
            <a:srgbClr val="ffd5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048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3048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3048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4876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4876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4952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4952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Metáfora WWW@W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57200" y="1828800"/>
            <a:ext cx="8381880" cy="173916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ff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LVES, Maria Bernardete Martins; ARRUDA, Susana Margareth.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o fazer referência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: bibliográficas, eletrônicas e demais formas de documento. Florianópolis: Universidade Federal de Santa Catarina, Biblioteca Universitária, c2001. Disponível em: &lt;http://ufsc.br/framerefer.html&gt;.  Acesso em: 12 set. 20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1600200"/>
          <a:ext cx="6934320" cy="4152960"/>
        </p:xfrm>
        <a:graphic>
          <a:graphicData uri="http://schemas.openxmlformats.org/drawingml/2006/table">
            <a:tbl>
              <a:tblPr/>
              <a:tblGrid>
                <a:gridCol w="1295280"/>
                <a:gridCol w="1447920"/>
                <a:gridCol w="1143000"/>
                <a:gridCol w="3048120"/>
              </a:tblGrid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ff"/>
                          </a:solidFill>
                          <a:latin typeface="Verdana"/>
                          <a:ea typeface="Times New Roman"/>
                        </a:rPr>
                        <a:t>W</a:t>
                      </a:r>
                      <a:r>
                        <a:rPr b="1" lang="pt-BR" sz="2000" spc="-1" strike="noStrike">
                          <a:solidFill>
                            <a:srgbClr val="990033"/>
                          </a:solidFill>
                          <a:latin typeface="Verdana"/>
                          <a:ea typeface="Times New Roman"/>
                        </a:rPr>
                        <a:t>ho?</a:t>
                      </a:r>
                      <a:r>
                        <a:rPr b="1" lang="pt-BR" sz="1200" spc="-1" strike="noStrike">
                          <a:solidFill>
                            <a:srgbClr val="990033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uem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u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, Ped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ff"/>
                          </a:solidFill>
                          <a:latin typeface="Verdana"/>
                          <a:ea typeface="Times New Roman"/>
                        </a:rPr>
                        <a:t>W</a:t>
                      </a:r>
                      <a:r>
                        <a:rPr b="1" lang="pt-BR" sz="2000" spc="-1" strike="noStrike">
                          <a:solidFill>
                            <a:srgbClr val="990033"/>
                          </a:solidFill>
                          <a:latin typeface="Verdana"/>
                          <a:ea typeface="Times New Roman"/>
                        </a:rPr>
                        <a:t>hat?</a:t>
                      </a:r>
                      <a:r>
                        <a:rPr b="1" lang="pt-BR" sz="1200" spc="-1" strike="noStrike">
                          <a:solidFill>
                            <a:srgbClr val="990033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 Qu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ítu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squisa e construção do conheci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ff"/>
                          </a:solidFill>
                          <a:latin typeface="Verdana"/>
                          <a:ea typeface="Times New Roman"/>
                        </a:rPr>
                        <a:t>W</a:t>
                      </a:r>
                      <a:r>
                        <a:rPr b="1" lang="pt-BR" sz="2000" spc="-1" strike="noStrike">
                          <a:solidFill>
                            <a:srgbClr val="990033"/>
                          </a:solidFill>
                          <a:latin typeface="Verdana"/>
                          <a:ea typeface="Times New Roman"/>
                        </a:rPr>
                        <a:t>her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d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de Janeiro : Atl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ff"/>
                          </a:solidFill>
                          <a:latin typeface="Verdana"/>
                          <a:ea typeface="Times New Roman"/>
                        </a:rPr>
                        <a:t>W</a:t>
                      </a:r>
                      <a:r>
                        <a:rPr b="1" lang="pt-BR" sz="2000" spc="-1" strike="noStrike">
                          <a:solidFill>
                            <a:srgbClr val="990033"/>
                          </a:solidFill>
                          <a:latin typeface="Verdana"/>
                          <a:ea typeface="Times New Roman"/>
                        </a:rPr>
                        <a:t>he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uand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47246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Metáfora WWW@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19320" y="274320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447920"/>
            <a:ext cx="381240" cy="3809880"/>
          </a:xfrm>
          <a:custGeom>
            <a:avLst/>
            <a:gdLst>
              <a:gd name="textAreaLeft" fmla="*/ 243720 w 381240"/>
              <a:gd name="textAreaRight" fmla="*/ 381600 w 38124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97"/>
                </a:lnTo>
                <a:cubicBezTo>
                  <a:pt x="10800" y="10197"/>
                  <a:pt x="5400" y="11097"/>
                  <a:pt x="0" y="11097"/>
                </a:cubicBezTo>
                <a:cubicBezTo>
                  <a:pt x="5400" y="11097"/>
                  <a:pt x="10800" y="11997"/>
                  <a:pt x="10800" y="1289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1676520"/>
            <a:ext cx="2666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UTOR  PESS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2743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TID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358128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GANIZADORES, EDITOR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4648320"/>
            <a:ext cx="3886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UTOR DESCONHE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44960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4000" y="189000"/>
            <a:ext cx="8569080" cy="6173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e5f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0000"/>
                </a:solidFill>
                <a:latin typeface="Verdana"/>
              </a:rPr>
              <a:t>UM AUTOR</a:t>
            </a:r>
            <a:r>
              <a:rPr b="0" lang="pt-BR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CHÜTZ, Edgar.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Reengenharia menta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: reeducação de hábitos e programação de metas. Florianópolis: Insular, 1997.  104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No texto: De acordo com Schütz (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ou   (SCHÜTZ, 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0000"/>
                </a:solidFill>
                <a:latin typeface="Verdana"/>
              </a:rPr>
              <a:t>DOIS AUTORES</a:t>
            </a:r>
            <a:r>
              <a:rPr b="0" lang="pt-BR" sz="18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ÓDERSTEN, Bo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GEOFREY, Reed.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Internationa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conomics.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3. ed. London: MacMillan,  1994.  714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No texto: De acordo com Sódersten e Geofrey  (1994, p. 2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ou (SÓDERSTEN;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GEOFREY, 1994, p. 2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0000"/>
                </a:solidFill>
                <a:latin typeface="Verdana"/>
              </a:rPr>
              <a:t>TRÊS AU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ORTON, Peter; AITKEN, Peter; WILTON, Richard.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e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N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rton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: a bíblia do programador. Tradução: Geraldo Costa Filho. Rio de Janeiro: Campos, 1994. 640 p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No texto: De acordo com Norton, Aitken e Wilton (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ou  (NORTON; AITKEN; WILTON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4000" y="189000"/>
            <a:ext cx="8569080" cy="5806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e5f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0000"/>
                </a:solidFill>
                <a:latin typeface="Verdana"/>
              </a:rPr>
              <a:t>Mais de três au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BRITO, Edson Vianna et al.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Imposto de renda das pessoas física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: livro prático de consulta diária. 6. ed. atual. São Paulo: Frase Editora, 1996. 288 p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No texto: De acordo com Brito et al. (1996, p. 5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ou   (BRITO et al.,  1996, p. 5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0000"/>
                </a:solidFill>
                <a:latin typeface="Verdana"/>
              </a:rPr>
              <a:t>Autor desconhecido ou publicação anôn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ÉTICA da informação no mercado do ano 2000: o papel da fonte e da  imprensa. Rio de Janeiro: CVM, FENAJ, 1999. 80p</a:t>
            </a:r>
            <a:r>
              <a:rPr b="1" lang="pt-BR" sz="20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No texto: A ética...  (1999, p. 2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ou (A ÉTICA... 1999, p. 2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0000"/>
                </a:solidFill>
                <a:latin typeface="Verdana"/>
              </a:rPr>
              <a:t>Organizadores, compiladores, editores, adaptadores,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BOSI, Alfredo (Org.).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 conto brasileiro contemporâne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. 3. ed. São Paulo: Cultrix, 1978. 293 p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No texto: De acordo com Bosi (197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ou  (BOSI, 197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052640"/>
            <a:ext cx="8569080" cy="4107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e5f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3300"/>
                </a:solidFill>
                <a:latin typeface="Verdana"/>
              </a:rPr>
              <a:t>Tradutor, prefaciador, ilustrador etc</a:t>
            </a:r>
            <a:r>
              <a:rPr b="0" lang="pt-BR" sz="1800" spc="-1" strike="noStrike">
                <a:solidFill>
                  <a:srgbClr val="cc33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ZPERKOWICZ,  Jerzy.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Nicolás Copérnic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: 1473-1973. Tradução de Victor M. Ferreras Tascón, Carlos H. de León Aragón.  Varsóvia: Editorial Científica Polaca, 1972. 8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. Tradução do origin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No texto: De acordo com Szperkowicz (19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ou   (</a:t>
            </a:r>
            <a:r>
              <a:rPr b="0" lang="pt-BR" sz="2000" spc="-1" strike="noStrike">
                <a:solidFill>
                  <a:srgbClr val="006699"/>
                </a:solidFill>
                <a:latin typeface="Times New Roman"/>
              </a:rPr>
              <a:t>SZPERKOWICZ</a:t>
            </a:r>
            <a:r>
              <a:rPr b="1" lang="pt-BR" sz="20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1" lang="pt-BR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19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0000"/>
                </a:solidFill>
                <a:latin typeface="Verdana"/>
              </a:rPr>
              <a:t>Entidade </a:t>
            </a:r>
            <a:r>
              <a:rPr b="1" lang="pt-BR" sz="1600" spc="-1" strike="noStrike">
                <a:solidFill>
                  <a:srgbClr val="cc0000"/>
                </a:solidFill>
                <a:latin typeface="Verdana"/>
              </a:rPr>
              <a:t>(associações, empresas, instituições, órgãos governamenta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UNIVERSIDADE DE SÃO PAULO. Instituto Astronômico e Geográfic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nuário astronômic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.  São Paulo,  1988.  279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No texto: Conforme  a Universidade Federal de São Paulo (1988, p. 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ou (</a:t>
            </a:r>
            <a:r>
              <a:rPr b="0" lang="pt-BR" sz="2000" spc="-1" strike="noStrike">
                <a:solidFill>
                  <a:srgbClr val="006699"/>
                </a:solidFill>
                <a:latin typeface="Times New Roman"/>
              </a:rPr>
              <a:t>UNIVERSIDADE FEDERAL DE SÃO PAULO, 1988, p. 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907920"/>
            <a:ext cx="8569080" cy="4484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e5f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Verdana"/>
              </a:rPr>
              <a:t>Órgão governa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BIBLIOTECA NACIONAL (Brasil).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ibliografia do</a:t>
            </a:r>
            <a:r>
              <a:rPr b="1" lang="pt-BR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H. de León Aragón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.  Varsóvia: Editorial Científica Polaca, 1972. 8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No texto: De acordo com a Biblioteca Nacional (19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ou   (</a:t>
            </a:r>
            <a:r>
              <a:rPr b="0" lang="pt-BR" sz="2000" spc="-1" strike="noStrike">
                <a:solidFill>
                  <a:srgbClr val="006699"/>
                </a:solidFill>
                <a:latin typeface="Times New Roman"/>
              </a:rPr>
              <a:t>BIOBLIOTECA NACIONAL</a:t>
            </a:r>
            <a:r>
              <a:rPr b="1" lang="pt-BR" sz="20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1" lang="pt-BR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19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Verdana"/>
              </a:rPr>
              <a:t>Órgão governa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BRASIL. Ministério do Trabalho. Secretaria de Formação e Desenvolvimento Profissional.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ducação profissional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:  um projeto para o desenvolvimento sustentado. Brasília: SEFOR, 1995. 24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699"/>
                </a:solidFill>
                <a:latin typeface="Times New Roman"/>
              </a:rPr>
              <a:t>No texto: Brasil (199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6699"/>
                </a:solidFill>
                <a:latin typeface="Times New Roman"/>
              </a:rPr>
              <a:t>ou  (BRASIL, 199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22:37:23Z</dcterms:created>
  <dc:creator>JBRA</dc:creator>
  <dc:description/>
  <dc:language>en-US</dc:language>
  <cp:lastModifiedBy>os</cp:lastModifiedBy>
  <dcterms:modified xsi:type="dcterms:W3CDTF">2006-04-18T09:31:53Z</dcterms:modified>
  <cp:revision>609</cp:revision>
  <dc:subject/>
  <dc:title>ABNT</dc:title>
</cp:coreProperties>
</file>